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62F-8654-4A44-932C-36DEFAEB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B14-1658-4C88-A5E7-F827B598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BB5-02AB-4BEF-BA3F-5A3283BD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5F9-609E-41AC-AAE6-3B79590B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435-C532-48C4-ABD1-5A5C157A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226-664C-48A7-A574-6F4C8B23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FC0-EE80-42A1-8048-456274AE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DDF-6233-4B60-8200-57ED8ED6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D2E-DE2C-4906-9CBF-97A07894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7A6-6B44-4D01-B87A-AEBC75A5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9F84-395C-4536-ACAD-71DD214D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8E79-AC34-498F-B362-699B5861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1D68-DA96-4255-AFCA-792AFFAB4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97200" y="217440"/>
            <a:ext cx="5340240" cy="503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เกณฑ์มาตรฐานระดับโอกาสที่จะเกิดความเสี่ย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861840"/>
          <a:ext cx="8229600" cy="2256120"/>
        </p:xfrm>
        <a:graphic>
          <a:graphicData uri="http://schemas.openxmlformats.org/drawingml/2006/table">
            <a:tbl>
              <a:tblPr/>
              <a:tblGrid>
                <a:gridCol w="1019160"/>
                <a:gridCol w="1800360"/>
                <a:gridCol w="5410080"/>
              </a:tblGrid>
              <a:tr h="47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ระดั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โอกาสที่จะเกิ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ำอธิบา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สูงมา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สู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านกลา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น้อ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น้อยมา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28"/>
          <p:cNvSpPr/>
          <p:nvPr/>
        </p:nvSpPr>
        <p:spPr>
          <a:xfrm>
            <a:off x="1969920" y="3243240"/>
            <a:ext cx="5338800" cy="4888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เกณฑ์มาตรฐานการกำหนดค่าประเมินผลกระท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3890880"/>
          <a:ext cx="8229600" cy="2255760"/>
        </p:xfrm>
        <a:graphic>
          <a:graphicData uri="http://schemas.openxmlformats.org/drawingml/2006/table">
            <a:tbl>
              <a:tblPr/>
              <a:tblGrid>
                <a:gridCol w="1019160"/>
                <a:gridCol w="1800360"/>
                <a:gridCol w="5410080"/>
              </a:tblGrid>
              <a:tr h="47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ระดั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ลกระท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ำอธิบา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รุนแรงที่สุ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่อนข้างรุนแร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านกลา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น้อ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น้อยมา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50"/>
          <p:cNvSpPr/>
          <p:nvPr/>
        </p:nvSpPr>
        <p:spPr>
          <a:xfrm>
            <a:off x="7956720" y="260280"/>
            <a:ext cx="93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KU-ERM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1"/>
          <p:cNvSpPr/>
          <p:nvPr/>
        </p:nvSpPr>
        <p:spPr>
          <a:xfrm>
            <a:off x="6732720" y="6437160"/>
            <a:ext cx="22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วันที่ประเมิน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7"/>
          <p:cNvSpPr/>
          <p:nvPr/>
        </p:nvSpPr>
        <p:spPr>
          <a:xfrm>
            <a:off x="380880" y="6308640"/>
            <a:ext cx="44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ส่วนงาน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หน่วยงาน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งาน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โครงการ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5:05:10Z</dcterms:created>
  <dc:creator>ICT IBM PC</dc:creator>
  <dc:description/>
  <dc:language>en-US</dc:language>
  <cp:lastModifiedBy>ocs</cp:lastModifiedBy>
  <cp:lastPrinted>2017-10-10T10:19:24Z</cp:lastPrinted>
  <dcterms:modified xsi:type="dcterms:W3CDTF">2017-10-10T10:19:29Z</dcterms:modified>
  <cp:revision>37</cp:revision>
  <dc:subject/>
  <dc:title>KEY  PROCESS</dc:title>
</cp:coreProperties>
</file>